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5C5-876D-4112-9BBF-DF2E7B54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115-5942-4C2A-A51C-11F5344B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554-3311-41AE-978B-69BDCC18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4EF-D3EA-4668-8CD5-D8845F19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DAA-4102-40F3-BEF6-935AC4B6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05F-7314-4638-AF64-90129311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634-82C6-4406-A607-8FDB2878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451-D227-487E-8494-11A3DA9D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A69-2FD9-4061-9C9C-AC73E276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89B-109A-4B9D-811D-03BE3AE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DFF-B663-4921-B530-C923A90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B88-057D-437A-9714-4E2D3250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DD1-CBE9-4938-B634-A8F21F195DDC}" type="slidenum">
              <a: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91404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PARP 2009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4760" y="3733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VES &amp; PV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ing Road Tri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Parents A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Reading Partners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22860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.A.R.P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is a statewide program designed to foster the love of reading in children by asking parents to set aside 15 minutes daily to read with their children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PARP Kick Off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Scavenger Hun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90560" y="25909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VES - January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VMS - January 2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Family Read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VES - Mouse and the Motorcyc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VMS - The Westing Ga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vie Night - March 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Many Ways to Participate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520" y="22860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ekly Participation Shee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ress Up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ing Budd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ok Sw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ok Dri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Home Scavenger Hu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andparents’ Te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Many Rewards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90560" y="2133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 a love of read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ekly Raff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zes for participa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Pod raff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ke raff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22:51:34Z</dcterms:created>
  <dc:creator>Michael Lee</dc:creator>
  <dc:description/>
  <dc:language>en-US</dc:language>
  <cp:lastModifiedBy>Michael Lee</cp:lastModifiedBy>
  <dcterms:modified xsi:type="dcterms:W3CDTF">2009-06-16T20:32:20Z</dcterms:modified>
  <cp:revision>2</cp:revision>
  <dc:subject/>
  <dc:title>PARP 2009</dc:title>
</cp:coreProperties>
</file>